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049966"/>
        <c:axId val="43874199"/>
      </c:barChart>
      <c:catAx>
        <c:axId val="990499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874199"/>
        <c:crosses val="autoZero"/>
        <c:auto val="1"/>
        <c:lblAlgn val="ctr"/>
        <c:lblOffset val="100"/>
        <c:noMultiLvlLbl val="0"/>
      </c:catAx>
      <c:valAx>
        <c:axId val="438741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0499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5732-0D9A-4AF8-AB4D-10E1CC473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415E-B166-4B2C-B87C-E114F9E48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6D5D-3DF6-48DF-9BCA-4270DCB0D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F653-86A4-4165-9943-67AA8F81F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DE65-14BE-442D-BC5B-53544D94F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4E58-8C55-412A-87E9-EBCE04C69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9804-B411-48EA-B714-77BE257E8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3FB0-2719-4536-89AD-52016FE39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574F-217F-463E-B4B1-37658CE61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172C-645B-46CE-98EA-A1AE2110C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E36A-4275-4E4F-A120-225C0B26F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2A87-00BD-4F93-9EA1-33EA7F5AC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916688-181E-48BB-B1DE-E262371C383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