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493946"/>
        <c:axId val="8733193"/>
      </c:barChart>
      <c:catAx>
        <c:axId val="984939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33193"/>
        <c:crosses val="autoZero"/>
        <c:auto val="1"/>
        <c:lblAlgn val="ctr"/>
        <c:lblOffset val="100"/>
        <c:noMultiLvlLbl val="0"/>
      </c:catAx>
      <c:valAx>
        <c:axId val="87331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4939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7653-EC28-4666-9A87-0CDE5C20A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D30F-07D6-4351-94D2-7AF8A5AE9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F472-0F3C-4628-B95C-3F06DFD20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41D1-95A6-464B-9758-06403102F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950E-D1B6-498C-9F04-2C5EF3442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92DA-4DE6-4DB6-A776-3A69B66D4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E484-8476-494D-996E-13CA6CA7B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A82E-3B11-4951-AA7C-A103A40B4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9CAA-900E-4A25-8FB2-C778328D5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B038-F55D-4E4D-A2A7-006E6725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80D5-377D-437A-97F3-1788C4A9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7FFA-5CF6-400B-9ABD-AB32E0A0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6A918A-B461-4BDF-B7EB-52791C8A857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