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42085"/>
        <c:axId val="74114553"/>
      </c:barChart>
      <c:catAx>
        <c:axId val="369420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14553"/>
        <c:crosses val="autoZero"/>
        <c:auto val="1"/>
        <c:lblAlgn val="ctr"/>
        <c:lblOffset val="100"/>
        <c:noMultiLvlLbl val="0"/>
      </c:catAx>
      <c:valAx>
        <c:axId val="741145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420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8D6-F2D0-4485-A811-51DAD476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DAF-496B-4969-BD54-ED8E1950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9BF9-6AAE-438C-AB91-B8417B6D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E41-240F-4D0C-B721-E9E58412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831-4308-436A-AACC-B2087BCC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731-76C0-4B07-B5AD-E74ECD96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AB5-44B3-4BCE-8A8A-62400DAD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7538-C4E3-4E05-ACC6-859FDCBC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C02E-429D-457C-82D1-BCAA2230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6FE2-E99E-4975-9399-0617D851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041-8B5B-4E07-9C73-894E3E15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5A37-D3B0-43D8-841A-3B9A7CB2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79B58-7677-4FA0-908E-158A6B4243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