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710929"/>
        <c:axId val="72427004"/>
      </c:barChart>
      <c:catAx>
        <c:axId val="927109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27004"/>
        <c:crosses val="autoZero"/>
        <c:auto val="1"/>
        <c:lblAlgn val="ctr"/>
        <c:lblOffset val="100"/>
        <c:noMultiLvlLbl val="0"/>
      </c:catAx>
      <c:valAx>
        <c:axId val="724270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109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1550-956A-40E2-B7F2-135C4973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8CE1-7195-40B7-BF9F-84148532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F851-1174-4F20-96FD-8B23AFD6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597E-5964-422F-AC2D-2ADD0D58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46E3-969C-45F4-AF62-CA104518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1BA1-032F-464E-BD68-BE49B331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AAEF-FF71-488D-AC62-A80A9A14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AC97-07DD-4124-A4A4-3CEFB26F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1D10-A46D-41BE-A8FF-859F4B60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A719-DB69-4CB5-B803-B4F3EECC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95F9-6ABD-4F57-AF10-ECD49E59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8E70-F5EC-41FB-977E-E534F843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355B5-CBD1-4F5A-BEF5-6903B66C8F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